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4DD4-51A8-41F3-9EAA-661A14149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F2E4-094E-4C46-913A-542B3B1D1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091A-E944-4795-919D-61420E5F6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AA90-1680-424A-B160-8EE902641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7B4F-DFEA-47C7-BD5D-E7FB3DEEF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20BD-2E88-4A02-AECE-E400A1B95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A82E-6990-4609-BEFE-18EFBE173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F1C6-F9A2-4101-9501-2B9DE081A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68CC-0540-410B-8827-B79715982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E6CA-D9BA-4BD3-A538-0E61C5467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CB4D-CC74-42B2-93F5-734B09103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0B72-B4D4-4E83-A50B-6F71E17EB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E27-19DB-46B1-8BF1-2570E6F98D00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MAPA ASSISTENCIAL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 </a:t>
            </a: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2014-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erência de Monitoramento Assistencial - GM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erência Geral de Regulação Assistencial - G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io de Janeiro, jun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86E5-4103-41DB-98AF-31BBA873EC86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ítulo 1"/>
          <p:cNvSpPr/>
          <p:nvPr/>
        </p:nvSpPr>
        <p:spPr>
          <a:xfrm>
            <a:off x="108000" y="1125360"/>
            <a:ext cx="892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jetivo  - dar transparência aos dados relativos à assistência prestada pelas operadoras de planos de saúde aos seus benefici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publicação tem como base os dados enviados trimestralmente à ANS pelas operadoras de planos de saúde ao Sistema de Informações de Produtos- S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essa edição, são apresentados dados de indicadores assistenciais utilizados internacionalmente referentes a consultas médicas, internação hospitalar, ressonância magnética nuclear, tomografia computadorizada e parto cesáreo, os quais são comparados com os resultados de países membros da OC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lém da versão em pdf, nessa versão disponibilizaremos uma base de dados com informações dos eventos, despesas e dos beneficiários, estratificada por modalidade, disponível para download no portal da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Mapa Assistencial com dados de 2014 e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3DDF-4DF8-4FED-965A-C6FF9C0DB60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or que comparar a saúde suplementar brasileira com países da OC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1"/>
          <p:cNvSpPr/>
          <p:nvPr/>
        </p:nvSpPr>
        <p:spPr>
          <a:xfrm>
            <a:off x="108000" y="1039680"/>
            <a:ext cx="871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Mapa Assistencial - anos bases 2014 e 2015 - pretendeu por meio de comparações com os países membros da OCDE e com o próprio sistema de saúde brasileiro – global, avaliar o desempenho do setor regulado por meio de alguns indicadores-ch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sistemas de saúde do mundo contemporâneo apresent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divergências  quanto ao acesso das populações aos serviços oferecidos, quanto à forma como esses serviços estão organizados, quanto ao modelo de financiamento e quanto ao seu desempe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convergências por conta de influências universais no campo tecnológico, no campo da informação, que se difunde cada vez mais rapidamente, e também no enfrentamento de desafios comuns determinados por mudanças demográficas e epidemio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6e8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tuar nossa posição num conjunto de países para melhor adequá-la é provavelmente um dos maiores interesses do uso da análise comp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A305-EE29-451D-963A-52B7B25698C3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ultas médicas por habitante e taxa de internação hospitalar por 1.000 habi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áfico 3" descr=""/>
          <p:cNvPicPr/>
          <p:nvPr/>
        </p:nvPicPr>
        <p:blipFill>
          <a:blip r:embed="rId1"/>
          <a:stretch/>
        </p:blipFill>
        <p:spPr>
          <a:xfrm>
            <a:off x="30240" y="1487520"/>
            <a:ext cx="4108320" cy="2913120"/>
          </a:xfrm>
          <a:prstGeom prst="rect">
            <a:avLst/>
          </a:prstGeom>
          <a:ln w="0">
            <a:noFill/>
          </a:ln>
        </p:spPr>
      </p:pic>
      <p:pic>
        <p:nvPicPr>
          <p:cNvPr id="100" name="Gráfico 4" descr=""/>
          <p:cNvPicPr/>
          <p:nvPr/>
        </p:nvPicPr>
        <p:blipFill>
          <a:blip r:embed="rId2"/>
          <a:stretch/>
        </p:blipFill>
        <p:spPr>
          <a:xfrm>
            <a:off x="3992400" y="1584360"/>
            <a:ext cx="5151600" cy="2859120"/>
          </a:xfrm>
          <a:prstGeom prst="rect">
            <a:avLst/>
          </a:prstGeom>
          <a:ln w="0">
            <a:noFill/>
          </a:ln>
        </p:spPr>
      </p:pic>
      <p:sp>
        <p:nvSpPr>
          <p:cNvPr id="101" name="CaixaDeTexto 1"/>
          <p:cNvSpPr/>
          <p:nvPr/>
        </p:nvSpPr>
        <p:spPr>
          <a:xfrm>
            <a:off x="44280" y="4581360"/>
            <a:ext cx="898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ultas médicas por habitante (Esq.) e taxa de internação hospitalar por 1.000 habitantes (Di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o: 2013 (ou mais rec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ra em vermelho: média da OC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ra em verde: Saúde Suplementar (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4C97-D479-4351-AF64-61F3C0AABC26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Número de exames de ressonância magnética por 1.000 habit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1"/>
          <p:cNvSpPr/>
          <p:nvPr/>
        </p:nvSpPr>
        <p:spPr>
          <a:xfrm>
            <a:off x="1870920" y="5373720"/>
            <a:ext cx="634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exames de ressonância magnética por 1.000 habita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o: 2013 (ou mais rec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ra em vermelho: média da OC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ra em verde: Saúde Suplementar (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Gráfico 6" descr=""/>
          <p:cNvPicPr/>
          <p:nvPr/>
        </p:nvPicPr>
        <p:blipFill>
          <a:blip r:embed="rId1"/>
          <a:stretch/>
        </p:blipFill>
        <p:spPr>
          <a:xfrm>
            <a:off x="2341440" y="1127160"/>
            <a:ext cx="3998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B8B-EAF9-48D9-8D32-792FBB5E4B74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e89"/>
                </a:solidFill>
                <a:latin typeface="Calibri"/>
              </a:rPr>
              <a:t>Taxa de cesaria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"/>
          <p:cNvSpPr/>
          <p:nvPr/>
        </p:nvSpPr>
        <p:spPr>
          <a:xfrm>
            <a:off x="53640" y="5445000"/>
            <a:ext cx="8881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de cesarianas (número de partos cesáreos para 100 nascidos vivos) para os países membros da OC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o: 2013 (ou mais rece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rra em vermelho: média da OC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rra em verde: proporção de partos cesáreos pelo total de partos da Saúde Suplementar (20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ráfico 6" descr=""/>
          <p:cNvPicPr/>
          <p:nvPr/>
        </p:nvPicPr>
        <p:blipFill>
          <a:blip r:embed="rId1"/>
          <a:stretch/>
        </p:blipFill>
        <p:spPr>
          <a:xfrm>
            <a:off x="1450800" y="1127160"/>
            <a:ext cx="62852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336E-93C1-4E34-825A-94C03D6F1412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3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de Figueiredo Soares</cp:lastModifiedBy>
  <dcterms:modified xsi:type="dcterms:W3CDTF">2016-06-09T21:21:19Z</dcterms:modified>
  <cp:revision>102</cp:revision>
  <dc:subject/>
  <dc:title>Slide 1</dc:title>
</cp:coreProperties>
</file>